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6A9-DBE0-4A26-92A8-BA0D48F0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1E5-A4E7-47E4-BBA1-64D706AE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A68-AE5A-408E-A8F8-5E6594A6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DC7-FB9D-4606-BC71-ACFB6AB6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E83-0936-4087-BEB3-7651F8A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1A3-1EC5-41CF-B3D1-3F88D0E3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A31-EBB0-4001-A052-2A080363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7A5-2D24-401D-AF1F-5CF4341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05C-6DC8-454D-AAD7-4841B5F8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004-DE48-411E-B0C5-0907EC6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071-2E99-4110-A85A-EFE0104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CDD-2618-49CE-9B96-E54AC32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3D74-4A03-4C93-8B2B-54C0457C53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CE2-258D-4E35-8430-63B702CF41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通常の起動時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76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6.38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mpl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910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10.2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8480" y="578016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susp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開始時間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74 [sec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A35-594C-4CFB-856B-27CE9B8E60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比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バージョンが異なるので比較が出来ない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/linux2.6.11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イメージが小さい＆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起動が早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/linux2.6.14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イメージ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ZF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圧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有効だが、起動時間とのトレードオ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-2.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なので、まだ不安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D0D-36B0-481E-A5B4-47D83CA66D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比較：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イメージサイズ／処理時間で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: 925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:     889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B02-4F25-4B1D-86EE-27D142D34F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作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v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, compression, UI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など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拡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主な処理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行い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への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変更を最小限にとどめることが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September/00131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3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6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F87-A562-4888-AEB0-ABD3196766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6.16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位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部分を入れた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もし入るならば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/FC 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分岐するだろう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3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使う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kit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阻止する為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制限をかけているの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ave Jon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以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3 vs security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議論白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/compression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行う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方が直感的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fael J. Wysoc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AAF-E41D-4BA7-8738-195F90F595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はそれら機能が入っているぞ、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ダブルエフォートだぞ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umitru Ciobarcia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実装するのは違う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v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疑うのか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g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一緒にする為に彼が何をしなければならないのか分かってい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何で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正しい場所だと思うのか分からな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g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DA0-00C8-4AE8-8BE1-B3DAC364E8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0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行程度し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変更が無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現在のままで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g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コード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in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は入らない事を自覚し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reg K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以降議論白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FE3-9D42-4DB6-9721-583166E255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E08-7A1D-4751-ABEA-68199F6AA4B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プリケーション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(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到達するまでに行われる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イメージの転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ダイナミック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グローバルコンストラク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システム全体を稼動する為のアプリケーション間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13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ＨＷ初期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7800" y="21463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ウン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392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の起動時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アプリケーションの起動時間を短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9B3-54AC-410A-A230-6FA568C0C3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バニラカーネルに含まれてい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070-0F54-4550-BA8C-53DB1EFC65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（比較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2960" y="14842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5948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出典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9CB-A1B0-49F6-8928-04C4D2A437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を行っ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投稿し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次期リリースに反映される予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800" y="3735360"/>
            <a:ext cx="80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suspend2.net/lurker/message/20051114.094040.11261d0e.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699-8435-4C03-8EFC-8EF79F95D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書き込み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684-3703-4FB7-9233-93DC34542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評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4 + Suspend2-2.2-rc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ログイン状態か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時間測定にカーネル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oo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立ち上がる時刻が基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nuconfig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227-3641-49C4-8A0F-A6D0FC50B9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通常の起動時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18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有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49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371 M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450 MB 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圧縮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無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99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54640" y="580536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開始時間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02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8160" y="549288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起動時間差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0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1D1-0E4F-48FF-A9F4-46E0D92B59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評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時間測定にカーネル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oo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立ち上がる時刻をゼ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nuconfig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6B4-8649-4E6A-8148-63899E4A7E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5-11-24T09:13:18Z</dcterms:modified>
  <cp:revision>3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